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EC64-7439-4D5E-A7C9-7B5FF9C744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5829-7B27-4710-A841-489F75ACB1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88AD-28FF-4410-8E5D-E89C891AA6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3728-10D1-4E72-B239-2E84C8A14C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B2FD-4922-4A9E-AF79-E4A05307E4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BC1B-4641-4FEF-869F-F482189C4B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B11F-91C2-4721-B6FB-1A834AC77F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6869-F858-4F18-913E-DD6B47E498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F021-789B-488E-BF1B-293FB3D25E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7CCA-E22B-4692-98DC-B60F6F24FD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FD4C-B388-41DE-B3AA-96EF876A06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FCF1-3A67-44DE-A620-93ABEA9A00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900F-F342-4B9A-8F4D-30E4CDF0ED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30CB-1062-4761-B197-7A06822FFB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5A2E-9D36-4380-972A-EB02849E57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97AC-31BF-440D-9AF7-C12EBD608A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A02B-6550-4560-B3C9-352F27D712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8F92-5B6D-4626-A6C2-C8E61AECBE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4CCF-4344-4B91-8B43-15A697DCA1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8866-AE01-49BF-8D27-5D421AF580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7747-94E6-4319-A332-F521221983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B5C2-F3C6-4945-B54A-DA0A8B6814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BE59-824C-4146-9135-7712DA75FD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7DBF-688C-458E-953F-68863D645A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74BD-FF46-45C2-920F-139AB2D6CD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7255-46AB-483A-8A4E-7E9CCA706C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F1A6-83AD-4104-BBE5-4F64A1F1D0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59DC-8224-4E5E-B0E8-470CF85B3B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B26A-957D-432E-A068-E5BBD98752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1FAA-2639-4B11-87E2-C1DE0A53FF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3FB6-A53A-45EF-908B-89A7D64CA9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DA7C-0168-4F1E-87BB-7F92991A4B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4A0F-2615-45FB-8AFF-9AA96D400F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E851-C1E0-47FC-BC10-02E84E91FC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61FA-8CD9-4E49-BEF9-9D614A7193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25F8-E298-46E0-A8EE-CA4987EDEC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F66F-5553-40B7-89FF-423AE0DF72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1FA5-4880-41CF-9C70-6245A3F833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53E4-7553-49DE-BAFD-08BCC33AC2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F2B5-E0F5-4D8D-8E21-3E5BEB299B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E863-FB0F-4A55-908B-A419AC5350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F05F-5C1F-4F8F-B65B-C610F01154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9DA6-0CC8-42D2-AB9C-A5FFB90A73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EC11-ED48-406C-9480-9BD0CEBDD1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82F1-CFE6-47FF-9416-CE6CDDE6D5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8D14-9D43-49B2-A840-83C3FCF80F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A8D0-07D7-4B50-AA4C-580455375C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AD29-8A8B-41B2-B79A-9A4C59DA03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AF1F-C473-45AB-BD39-1FA7440DD7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0ACB-0FD1-4B69-A362-EF85167AF5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02E4-5257-4E5B-B192-43A67F1C3B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36D5-C9ED-4E22-A8A8-B9AF539923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F880-7839-45C9-99A8-A9C576FCD9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2640-9BF1-4CFC-BEEE-C2956BB31C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8096-9A8B-4007-8019-88D6C8ACFC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50EC-3D75-4736-B61C-7EC2DD1892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DC6-7DCA-42FD-85E9-C99E6515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0C5-AEAF-4ECE-AA96-02F44B33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92B-6196-4828-A704-50B4853A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FEF-8D74-4E4C-BD56-4996A847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B75-4DB6-40D5-A4FA-EE7A3432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6AB-B7C0-4AFC-A33F-727058DB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6CA-0993-47CF-B351-C7582B0A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BFC-CE0E-47B5-BD69-4240269E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EAA-7FE9-4F08-8636-4C70FAFC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D25-33BC-4170-8C16-BC8D9DB4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7A4-9884-44BB-BBA4-A591AAF3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FF9-3717-4E42-B624-B2CA01FE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f49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8281-F28F-4FA2-A895-F7A519E27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УрО РАН-Gold2.png"/>
          <p:cNvPicPr/>
          <p:nvPr/>
        </p:nvPicPr>
        <p:blipFill>
          <a:blip r:embed="rId1"/>
          <a:stretch/>
        </p:blipFill>
        <p:spPr>
          <a:xfrm>
            <a:off x="1511280" y="1222200"/>
            <a:ext cx="6121440" cy="4413600"/>
          </a:xfrm>
          <a:prstGeom prst="rect">
            <a:avLst/>
          </a:prstGeom>
          <a:ln w="0">
            <a:noFill/>
          </a:ln>
        </p:spPr>
      </p:pic>
      <p:grpSp>
        <p:nvGrpSpPr>
          <p:cNvPr id="49" name="TextBox 4"/>
          <p:cNvGrpSpPr/>
          <p:nvPr/>
        </p:nvGrpSpPr>
        <p:grpSpPr>
          <a:xfrm>
            <a:off x="1231920" y="2700360"/>
            <a:ext cx="6711840" cy="1414440"/>
            <a:chOff x="1231920" y="2700360"/>
            <a:chExt cx="6711840" cy="1414440"/>
          </a:xfrm>
        </p:grpSpPr>
        <p:pic>
          <p:nvPicPr>
            <p:cNvPr id="50" name="TextBox 4" descr=""/>
            <p:cNvPicPr/>
            <p:nvPr/>
          </p:nvPicPr>
          <p:blipFill>
            <a:blip r:embed="rId2"/>
            <a:stretch/>
          </p:blipFill>
          <p:spPr>
            <a:xfrm>
              <a:off x="1231920" y="2700360"/>
              <a:ext cx="67118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473120" y="2828880"/>
              <a:ext cx="619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c000"/>
                  </a:solidFill>
                  <a:latin typeface="Calibri"/>
                </a:rPr>
                <a:t>Система экспортного контроля</a:t>
              </a:r>
              <a:br>
                <a:rPr sz="3600"/>
              </a:br>
              <a:r>
                <a:rPr b="0" lang="ru-RU" sz="3600" spc="-1" strike="noStrike">
                  <a:solidFill>
                    <a:srgbClr val="ffc000"/>
                  </a:solidFill>
                  <a:latin typeface="Calibri"/>
                </a:rPr>
                <a:t>в УрО РАН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TextBox 3"/>
          <p:cNvSpPr/>
          <p:nvPr/>
        </p:nvSpPr>
        <p:spPr>
          <a:xfrm>
            <a:off x="7500960" y="62150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17.02.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3469E-006 L -0.39375 -0.41968 E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" y="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463680" y="2523960"/>
            <a:ext cx="82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Часть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. Объекты экспортного контроля в УрО РАН, процедуры проведения и документального оформления идентификации в целях Э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285840" y="2000160"/>
            <a:ext cx="85723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Экспортный контроль – комплекс мер, обеспечивающих порядок осуществления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 внешнеэконом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отношении товаров, информации, работ, услуг, результатов интеллектуальной деятельности (прав на них), которые могут быть использованы при создании оружия массового поражения, средств его доставки, иных видов вооружения и военной техники либо при подготовке и (или) совершении террористических а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285840" y="178596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Внешнеэкономическая деятельность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внешнеторговая, инвестиционная и иная деятельность, включая производственную кооперацию, в области международного обмена товарами, информацией, работами, услугами, результатами интеллектуальной деятельности (правами на них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285840" y="178596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Внешнеэкономическая дея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нешнеторговая, инвестиционная и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иная дея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включая производственную кооперацию,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в области международного обмен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товарами,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информацие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работами, услугами, результатами интеллектуальной деятельности (правами на них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838080" y="1028880"/>
            <a:ext cx="74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Методы осуществления  Э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хема 4" descr=""/>
          <p:cNvPicPr/>
          <p:nvPr/>
        </p:nvPicPr>
        <p:blipFill>
          <a:blip r:embed="rId2"/>
          <a:stretch/>
        </p:blipFill>
        <p:spPr>
          <a:xfrm>
            <a:off x="895320" y="1889280"/>
            <a:ext cx="7278840" cy="453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838080" y="1028880"/>
            <a:ext cx="74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Методы осуществления  Э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хема 4" descr=""/>
          <p:cNvPicPr/>
          <p:nvPr/>
        </p:nvPicPr>
        <p:blipFill>
          <a:blip r:embed="rId2"/>
          <a:stretch/>
        </p:blipFill>
        <p:spPr>
          <a:xfrm>
            <a:off x="895320" y="1889280"/>
            <a:ext cx="7278840" cy="453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285840" y="2071800"/>
            <a:ext cx="8572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Идентификаци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– установление соответствия конкретных сырья, материалов, оборудования, научно-технической информации, работ, услуг, результатов интеллектуальной деятельности, являющихся объектами внешнеэкономических операций, товарам и технологиям, включенным в списки (перечни) товаров и технологий, экспорт которых контролиру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572080" y="55008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7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1357200" y="28584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оследовательность проведения идентификации в УрО Р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хема 4" descr=""/>
          <p:cNvPicPr/>
          <p:nvPr/>
        </p:nvPicPr>
        <p:blipFill>
          <a:blip r:embed="rId2"/>
          <a:stretch/>
        </p:blipFill>
        <p:spPr>
          <a:xfrm>
            <a:off x="378000" y="1463760"/>
            <a:ext cx="8321400" cy="496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1357200" y="28584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оследовательность проведения идентификации в УрО Р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хема 4" descr=""/>
          <p:cNvPicPr/>
          <p:nvPr/>
        </p:nvPicPr>
        <p:blipFill>
          <a:blip r:embed="rId2"/>
          <a:stretch/>
        </p:blipFill>
        <p:spPr>
          <a:xfrm>
            <a:off x="378000" y="1463760"/>
            <a:ext cx="8321400" cy="496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1152360" y="104760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Категории объектов ЭК в УрО Р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28760" y="1844640"/>
            <a:ext cx="828648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овары, передаваемые за рубеж по экспортным контра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зультаты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учных работ по международным контрактам, договорам и соглашен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убликации ученых УрО РАН в зарубежных средствах печати и массовой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оклады и презентации, представляемые учеными УрО РАН на зарубежных конференц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оклады и презентации, представляемые учеными УрО РАН на международных конференциях, проводимых в России с участием иностранц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0" y="121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лан семина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37960" y="2166840"/>
            <a:ext cx="828684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дведение итогов работы в области экспортного контроля в УрО РАН за 2009 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ъекты экспортного контроля в УрО РАН, процедуры проведения и документального оформления идентификации в целях Э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суждение вопросов реализации ЭК в УрО Р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1236600" y="105876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Кто может проводить идентифик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07880" y="2019240"/>
            <a:ext cx="828684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Ответственный за экспортный контроль научного учреждения лично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программы пребывания иностранных граждан в институт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Комиссия института по экспортному контролю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любые вопрос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Ученый совет института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внешнеэкономические контракт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Комиссия по возможности открытого опубликования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публикации, доклады на международных семинарах и т.п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Независимая идентификационная экспертиза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внешнеэкономические контракты связанные с экспортом това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1428840" y="88884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Документы, свидетельствующие о проведении идентифик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28760" y="2286000"/>
            <a:ext cx="82864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ответственного за экспортный контр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грамма пребывания иностранцев в институте с подписью ответственного за Э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комиссии института по Э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ыписка из решения ученого совета инстит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комиссии по возможности открытого опублик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независимой идентификационной 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pic>
        <p:nvPicPr>
          <p:cNvPr id="123" name="Схема 5" descr=""/>
          <p:cNvPicPr/>
          <p:nvPr/>
        </p:nvPicPr>
        <p:blipFill>
          <a:blip r:embed="rId2"/>
          <a:stretch/>
        </p:blipFill>
        <p:spPr>
          <a:xfrm>
            <a:off x="1079640" y="1420920"/>
            <a:ext cx="6832440" cy="5155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357120" y="9288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сновные события, требующие проведения идентификации в целях Э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pic>
        <p:nvPicPr>
          <p:cNvPr id="126" name="Схема 5" descr=""/>
          <p:cNvPicPr/>
          <p:nvPr/>
        </p:nvPicPr>
        <p:blipFill>
          <a:blip r:embed="rId2"/>
          <a:stretch/>
        </p:blipFill>
        <p:spPr>
          <a:xfrm>
            <a:off x="1079640" y="1420920"/>
            <a:ext cx="6832440" cy="5155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357120" y="9288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сновные события, требующие проведения идентификации в целях Э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357120" y="9288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Международные контракты,</a:t>
            </a:r>
            <a:br>
              <a:rPr sz="24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едусматривающие экспорт това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28760" y="2286000"/>
            <a:ext cx="82864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ответственного за экспортный контр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грамма пребывания иностранцев в институте с подписью ответственного за Э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комиссии института по Э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ыписка из решения ученого совета инстит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комиссии по возможности открытого опублик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независимой идентификационной 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6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6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6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6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6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pic>
        <p:nvPicPr>
          <p:cNvPr id="132" name="Схема 5" descr=""/>
          <p:cNvPicPr/>
          <p:nvPr/>
        </p:nvPicPr>
        <p:blipFill>
          <a:blip r:embed="rId2"/>
          <a:stretch/>
        </p:blipFill>
        <p:spPr>
          <a:xfrm>
            <a:off x="1079640" y="1420920"/>
            <a:ext cx="6832440" cy="5155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357120" y="9288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сновные события, требующие проведения идентификации в целях Э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pic>
        <p:nvPicPr>
          <p:cNvPr id="135" name="Схема 5" descr=""/>
          <p:cNvPicPr/>
          <p:nvPr/>
        </p:nvPicPr>
        <p:blipFill>
          <a:blip r:embed="rId2"/>
          <a:stretch/>
        </p:blipFill>
        <p:spPr>
          <a:xfrm>
            <a:off x="1079640" y="1420920"/>
            <a:ext cx="6832440" cy="51559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57120" y="9288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сновные события, требующие проведения идентификации в целях Э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57120" y="9288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Международные контракты,</a:t>
            </a:r>
            <a:br>
              <a:rPr sz="24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без экспорта това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428760" y="2286000"/>
            <a:ext cx="82864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ответственного за экспортный контр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грамма пребывания иностранцев в институте с подписью ответственного за Э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комиссии института по Э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ыписка из решения ученого совета инстит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комиссии по возможности открытого опублик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независимой идентификационной 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40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40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40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pic>
        <p:nvPicPr>
          <p:cNvPr id="141" name="Схема 5" descr=""/>
          <p:cNvPicPr/>
          <p:nvPr/>
        </p:nvPicPr>
        <p:blipFill>
          <a:blip r:embed="rId2"/>
          <a:stretch/>
        </p:blipFill>
        <p:spPr>
          <a:xfrm>
            <a:off x="1079640" y="1420920"/>
            <a:ext cx="6832440" cy="51559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57120" y="9288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сновные события, требующие проведения идентификации в целях Э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pic>
        <p:nvPicPr>
          <p:cNvPr id="144" name="Схема 5" descr=""/>
          <p:cNvPicPr/>
          <p:nvPr/>
        </p:nvPicPr>
        <p:blipFill>
          <a:blip r:embed="rId2"/>
          <a:stretch/>
        </p:blipFill>
        <p:spPr>
          <a:xfrm>
            <a:off x="1079640" y="1420920"/>
            <a:ext cx="6832440" cy="51559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357120" y="9288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сновные события, требующие проведения идентификации в целях Э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463680" y="3105000"/>
            <a:ext cx="82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Часть </a:t>
            </a: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I</a:t>
            </a: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. Отчёт о проделанной рабо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357120" y="92880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убликации, доклады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428760" y="2286000"/>
            <a:ext cx="82864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ответственного за экспортный контр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грамма пребывания иностранцев в институте с подписью ответственного за Э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комиссии института по Э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ыписка из решения ученого совета инстит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комиссии по возможности открытого опублик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независимой идентификационной 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437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pic>
        <p:nvPicPr>
          <p:cNvPr id="150" name="Схема 5" descr=""/>
          <p:cNvPicPr/>
          <p:nvPr/>
        </p:nvPicPr>
        <p:blipFill>
          <a:blip r:embed="rId2"/>
          <a:stretch/>
        </p:blipFill>
        <p:spPr>
          <a:xfrm>
            <a:off x="1079640" y="1420920"/>
            <a:ext cx="6832440" cy="51559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357120" y="9288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сновные события, требующие проведения идентификации в целях Э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pic>
        <p:nvPicPr>
          <p:cNvPr id="153" name="Схема 5" descr=""/>
          <p:cNvPicPr/>
          <p:nvPr/>
        </p:nvPicPr>
        <p:blipFill>
          <a:blip r:embed="rId2"/>
          <a:stretch/>
        </p:blipFill>
        <p:spPr>
          <a:xfrm>
            <a:off x="1079640" y="1420920"/>
            <a:ext cx="6832440" cy="5155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357120" y="9288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сновные события, требующие проведения идентификации в целях Э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357120" y="9288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Международные контракты,</a:t>
            </a:r>
            <a:br>
              <a:rPr sz="24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без экспорта това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428760" y="2286000"/>
            <a:ext cx="82864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ответственного за экспортный контр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грамма пребывания иностранцев в институте с подписью ответственного за Э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комиссии института по Э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ыписка из решения ученого совета инстит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комиссии по возможности открытого опублик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независимой идентификационной 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46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463680" y="281160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В ходе приема не будут передаваться товары и технологии, экспорт которых контролиру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pic>
        <p:nvPicPr>
          <p:cNvPr id="161" name="Схема 5" descr=""/>
          <p:cNvPicPr/>
          <p:nvPr/>
        </p:nvPicPr>
        <p:blipFill>
          <a:blip r:embed="rId2"/>
          <a:stretch/>
        </p:blipFill>
        <p:spPr>
          <a:xfrm>
            <a:off x="1079640" y="1420920"/>
            <a:ext cx="6832440" cy="51559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57120" y="9288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сновные события, требующие проведения идентификации в целях Э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"/>
          <p:cNvSpPr/>
          <p:nvPr/>
        </p:nvSpPr>
        <p:spPr>
          <a:xfrm>
            <a:off x="463680" y="2184480"/>
            <a:ext cx="821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Учёный совет Института электрофизики УрО РАН </a:t>
            </a: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рассмотрев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предложение зав. лабораторией пучков частиц Гаврилова Н.В. о подписании контракта на совместные научные исследования </a:t>
            </a: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нашел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, что в результате работ по контракту передачи контролируемых товаров и технологий производиться не будет.</a:t>
            </a:r>
            <a:br>
              <a:rPr sz="2400"/>
            </a:b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Не подпадает под экспортный контроль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463680" y="2184480"/>
            <a:ext cx="821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ПДТК Института электрофизики УрО РАН </a:t>
            </a: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рассмотрев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предложение зав. лабораторией пучков частиц Гаврилова Н.В. о подписании контракта на совместные научные исследования </a:t>
            </a: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нашла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, что в результате работ по контракту предусматривается передача контролируемых товаров и технологий. </a:t>
            </a:r>
            <a:br>
              <a:rPr sz="2400"/>
            </a:b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Рекомендовано обратиться в ФСТЭК РФ за получением разрешительных докум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463680" y="2811600"/>
            <a:ext cx="82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Процедура проведения идентиф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285840" y="1996920"/>
            <a:ext cx="8572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оссийским лицам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запрещаетс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заключать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совершать внешнеэкономические сделки с товарами, информацией, работами, услугами, результатами интеллектуальной деятельности (правами на них) или участвовать в них любым иным образом в случае, если таким лицам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достоверно известно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 данные товары, информация, работы, услуги, результаты интеллектуальной деятельности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будут использованы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остранным государством или иностранным лицом для целей создания оружия массового поражения и средств его доставки либо для подготовки и (или) совершения террористических а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20 часть 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0" y="928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Что сдела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00160" y="2095560"/>
            <a:ext cx="8688240" cy="37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ведено изучение законодательства РФ в области Э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анализирована ситуация в УрО РАН с точки зрения Э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ыделены типовые объекты Э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ределены основные процедуры проведения идентификации в целях Э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формулированы принципы построения системы ЭК в УрО Р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285840" y="1996920"/>
            <a:ext cx="8572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оссийским лицам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запрещаетс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заключать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совершать внешнеэкономические сделки с товарами, информацией, работами, услугами, результатами интеллектуальной деятельности (правами на них) или участвовать в них любым иным образом в случае, если таким лицам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Calibri"/>
              </a:rPr>
              <a:t>достоверно известно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 данные товары, информация, работы, услуги, результаты интеллектуальной деятельности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Calibri"/>
              </a:rPr>
              <a:t>будут использованы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остранным государством или иностранным лицом для целей создания оружия массового поражения и средств его доставки либо для подготовки и (или) совершения террористических а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20 часть 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285840" y="1285920"/>
            <a:ext cx="8572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оссийские участники внешнеэкономической деятельности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обязаны получить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рядке, установленном Правительством Российской Федерации,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разреше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межведомственного координационного органа по экспортному контролю на осуществление внешнеэкономических операций с товарами, информацией, работами, услугами, результатами интеллектуальной деятельности (правами на них), не подпадающими под действие списков (перечней), указанных в статье 6 настоящего Федерального закона, в случаях, если российские участники внешнеэкономической деятельности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имеют основания полага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что эти товары, информация, работы, услуги, результаты интеллектуальной деятельности (права на них)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могут быть использован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ля создания оружия массового поражения, средств его доставки, иных видов вооружения и военной техники или приобретаются в интересах лиц, в отношении которых имеются полученные в соответствии с законодательством Российской Федерации сведения об их участии в террористической деятельности, либо если российские участники внешнеэкономической деятельности информированы в письменной форме об этом специально уполномоченным федеральным органом исполнительной власти в области экспортного контро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20 часть 2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285840" y="1285920"/>
            <a:ext cx="8572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оссийские участники внешнеэкономической деятельности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обязаны получить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рядке, установленном Правительством Российской Федерации,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разреше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межведомственного координационного органа по экспортному контролю на осуществление внешнеэкономических операций с товарами, информацией, работами, услугами, результатами интеллектуальной деятельности (правами на них), не подпадающими под действие списков (перечней), указанных в статье 6 настоящего Федерального закона, в случаях, если российские участники внешнеэкономической деятельности </a:t>
            </a:r>
            <a:r>
              <a:rPr b="0" lang="ru-RU" sz="1600" spc="-1" strike="noStrike" u="sng">
                <a:solidFill>
                  <a:srgbClr val="ffc000"/>
                </a:solidFill>
                <a:uFillTx/>
                <a:latin typeface="Calibri"/>
              </a:rPr>
              <a:t>имеют основания полага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что эти товары, информация, работы, услуги, результаты интеллектуальной деятельности (права на них) </a:t>
            </a:r>
            <a:r>
              <a:rPr b="0" lang="ru-RU" sz="1600" spc="-1" strike="noStrike" u="sng">
                <a:solidFill>
                  <a:srgbClr val="ffc000"/>
                </a:solidFill>
                <a:uFillTx/>
                <a:latin typeface="Calibri"/>
              </a:rPr>
              <a:t>могут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 быть использован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ля создания оружия массового поражения, средств его доставки, иных видов вооружения и военной техники или приобретаются в интересах лиц, в отношении которых имеются полученные в соответствии с законодательством Российской Федерации сведения об их участии в террористической деятельности, либо если российские участники внешнеэкономической деятельности информированы в письменной форме об этом специально уполномоченным федеральным органом исполнительной власти в области экспортного контро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20 часть 2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214200" y="1928880"/>
            <a:ext cx="8572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ля участников внешнеэкономической деятельности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основаниями полагать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 экспортируемая (передаваемая иностранному государству или иностранному лицу) научно-техническая продукция может быть использована в целях создания оружия массового поражения и средств его доставки, иных видов вооружения и военной техники либо приобретается в интересах организаций или физических лиц, причастных к террористической деятельности, в частности,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являютс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5572080" y="57150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ункт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 №517 от 15.08.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1285920" y="2858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снования полагать, что экспортируемая научно-техническая продукция может быть использована в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целях создания оружия массового поражения и т.д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5572080" y="607212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ункт 3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 №517 от 15.08.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214200" y="1214280"/>
            <a:ext cx="864396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предполагаемая поставка научно-технической продукции в иностранное государство, в отношении которого имеется официальная информация о нарушении им обязательств по международным договорам (соглашениям) в области нераспространения оружия массового поражени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2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имеющаяся у российского участника внешнеэкономической деятельности информация о причастности иностранного лица, являющегося стороной по контракту, грузополучателем либо конечным пользователем (потребителем) приобретаемой научно-технической продукции, к военным программам в ядерной, химической, биологической или ракетной областях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3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нежелание иностранного покупателя (получателя) предоставить информацию о конечном назначении и конечных пользователях (потребителях) приобретаемой научно-технической продукции, месте ее использовани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4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несоответствие функционального назначения и технических характеристик приобретаемой иностранным покупателем (получателем) научно-технической продукции заявленным целям ее использования или сфере деятельности конечных пользователей (потребителе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5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несоответствие объема (количества) и номенклатуры приобретаемой научно-технической продукции характеру и техническому уровню производственных мощностей, которыми располагает конечный пользователь (потребитель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6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предъявление иностранным покупателем (получателем) повышенных требований к конфиденциальности информации в отношении конечного назначения, конечных пользователей (потребителей) приобретаемой научно-технической продукции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7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использование иностранным покупателем (получателем) не соответствующих обычной торговой практике условий финансовых расчетов за приобретаемую научно-техническую продукцию, стремление произвести оплату наличными средствами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8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размещение заказа на поставку научно-технической продукции организацией (физическим лицом), находящейся (имеющим постоянное место жительства) на территории государства, отличного от государства назначени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9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необоснованный отказ иностранного покупателя (получателя) и (или) конечного пользователя (потребителя) научно-технической продукции от услуг поставщика по ее сборке, монтажу и техническому обслуживанию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0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предъявление иностранным покупателем (получателем) нехарактерных для обычной торговой практики требований к упаковке и маркировке приобретаемой научно-технической продукции, препятствующих или затрудняющих ее проверку при проведении таможенного оформления и таможенного контрол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1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имеющиеся сведения о намерениях иностранного покупателя (получателя) и (или) конечного пользователя (потребителя) провести модификацию приобретаемой научно-технической продукции, в результате которой повышаются технические возможности для ее применения в целях создания оружия массового поражения и средств его доставки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2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использование иностранным покупателем (получателем) и (или) конечным пользователем (потребителем) приобретаемой научно-технической продукции абонентского почтового ящика в качестве адреса для деловой переписки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3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выбор иностранным покупателем (получателем) экономически нелогичных способа и (или) маршрута доставки приобретаемой научно-технической продукции до заявленного места назначени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4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указание иностранным покупателем (получателем) в качестве места использования приобретаемой научно-технической продукции территории или объекта с регламентированным посещением для иностранных граждан либо территории, на которой отмечается высокий уровень террористической активности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5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действующее эмбарго Совета Безопасности Организации Объединенных Наций или иной международной организации, участницей которой является Российская Федерация, на поставки вооружения и военной техники, введенное против страны-покупателя или страны конечного использования экспортируемой (передаваемой) научно-технической продукции в случае, когда такая продукция является потенциально пригодной (применимой) для создания вооружения и военной техники, на которые распространяется такое эмбарго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6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имеющаяся у российского участника внешнеэкономической деятельности информация о намерениях иностранного покупателя (конечного пользователя) прямо или косвенно использовать приобретаемую научно-техническую продукцию в целях создания вооружения и военной техники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7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имеющаяся у российского участника внешнеэкономической деятельности информация, в том числе полученная в порядке, предусмотренном абзацем шестым пункта 2 настоящих Правил, о том, что выгодоприобретателем по внешнеэкономической сделке выступает организация или физическое лицо, причастные к террористической деятельности, либо юридическое лицо, прямо или косвенно находящееся в собственности или под контролем таких организации или лица, либо физическое или юридическое лицо, действующее от имени или по указанию таких организации или лиц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"/>
          <p:cNvSpPr/>
          <p:nvPr/>
        </p:nvSpPr>
        <p:spPr>
          <a:xfrm>
            <a:off x="1285920" y="2858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снования полагать, что экспортируемая научно-техническая продукция может быть использована в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целях создания оружия массового поражения и т.д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5572080" y="607212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ункт 3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 №517 от 15.08.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214200" y="1357200"/>
            <a:ext cx="86439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меющаяся у российского участника внешнеэкономической деятельности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информация о причастност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остранного лица, являющегося стороной по контракту, грузополучателем либо конечным пользователем (потребителем) приобретаемой научно-технической продукции,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к военным программа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ядерной, химической, биологической или ракетной обла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ежелание иностранного покупателя (получателя) предоставить информацию о конечном назначении и конечных пользователях (потребителях) приобретаемой научно-технической продукции, месте ее ис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6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дъявление иностранным покупателем (получателем)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повышенных требований к конфиденциальности информации в отношении конечного назначения, конечных пользователе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потребителей) приобретаемой научно-техническ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7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ование иностранным покупателем (получателем) не соответствующих обычной торговой практике условий финансовых расчетов за приобретаемую научно-техническую продукцию,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стремление произвести оплату наличными средствам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азмещение заказ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поставку научно-технической продукци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рганизацие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физическим лицом)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ходящейс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имеющим постоянное место жительства)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 территории государства, отличного от государства назначен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)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спользовани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ностранным покупателем (получателем) и (или) конечным пользователем (потребителем) приобретаемой научно-технической продукци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бонентского почтового ящика в качестве адрес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ля деловой перепис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4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казание иностранным покупателем (получателем) в качестве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места использования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обретаемой научно-технической продукции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территории или объекта с регламентированным посещение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ля иностранных граждан либо территории, на которой отмечается высокий уровень террористической а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7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меющаяся у российского участника внешнеэкономической деятельности информация, в том числе полученная в порядке, предусмотренном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абзацем шестым пункта 2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стоящих Правил, о том, что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выгодоприобретател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о внешнеэкономической сделке выступает организация или физическое лицо,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причастные к террористической деятельност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либо юридическое лицо, прямо или косвенно находящееся в собственности или под контролем таких организации или лица, либо физическое или юридическое лицо, действующее от имени или по указанию таких организации или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357120" y="2071800"/>
            <a:ext cx="8572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формирование участников внешнеэкономической деятельности об организациях и физических лицах,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причастных к террористическ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осуществляется Федеральной службой по техническому и экспортному контролю путем размещения на ее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официальном сайте (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http://www.fstec.ru/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ети Интернет сведений, формируемых на основании данных, предоставляемых Федеральной службой по финансовому мониторингу в Федеральную службу по техническому и экспортному контролю в согласованном с ней поряд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5572080" y="564372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ункт 2 абзац 6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 №517 от 15.08.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1428840" y="2858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Блок-схема проведения идентиф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в целях Э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Схема 6" descr=""/>
          <p:cNvPicPr/>
          <p:nvPr/>
        </p:nvPicPr>
        <p:blipFill>
          <a:blip r:embed="rId2"/>
          <a:stretch/>
        </p:blipFill>
        <p:spPr>
          <a:xfrm>
            <a:off x="1085760" y="993600"/>
            <a:ext cx="6607440" cy="52311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5715000" y="607212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20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3"/>
          <p:cNvSpPr/>
          <p:nvPr/>
        </p:nvSpPr>
        <p:spPr>
          <a:xfrm>
            <a:off x="1428840" y="2858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Блок-схема проведения идентиф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в целях Э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Схема 6" descr=""/>
          <p:cNvPicPr/>
          <p:nvPr/>
        </p:nvPicPr>
        <p:blipFill>
          <a:blip r:embed="rId2"/>
          <a:stretch/>
        </p:blipFill>
        <p:spPr>
          <a:xfrm>
            <a:off x="1316160" y="1322280"/>
            <a:ext cx="6511680" cy="532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pic>
        <p:nvPicPr>
          <p:cNvPr id="203" name="Схема 5" descr=""/>
          <p:cNvPicPr/>
          <p:nvPr/>
        </p:nvPicPr>
        <p:blipFill>
          <a:blip r:embed="rId2"/>
          <a:stretch/>
        </p:blipFill>
        <p:spPr>
          <a:xfrm>
            <a:off x="1011240" y="957240"/>
            <a:ext cx="7115040" cy="497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0" y="1347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инципы формирования системы ЭК в УрО Р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274680" y="2408400"/>
            <a:ext cx="862488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трогое соблюдение законодательства РФ в области экспортного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ецентрализованная структура – проведение идентификации непосредственно в научных учрежден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инимизация дополнительной нагрузки на научные учреждения УрО Р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инимальное вмешательство в научную рабо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аксимальное использование существующих структур и налаженных процеду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чет особенностей научных учрежд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1428840" y="2858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Экспортируется тов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Схема 6" descr=""/>
          <p:cNvPicPr/>
          <p:nvPr/>
        </p:nvPicPr>
        <p:blipFill>
          <a:blip r:embed="rId2"/>
          <a:stretch/>
        </p:blipFill>
        <p:spPr>
          <a:xfrm>
            <a:off x="281160" y="822240"/>
            <a:ext cx="8478720" cy="574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5"/>
          <p:cNvSpPr/>
          <p:nvPr/>
        </p:nvSpPr>
        <p:spPr>
          <a:xfrm>
            <a:off x="1428840" y="2858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Экспортируется информ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Схема 6" descr=""/>
          <p:cNvPicPr/>
          <p:nvPr/>
        </p:nvPicPr>
        <p:blipFill>
          <a:blip r:embed="rId2"/>
          <a:stretch/>
        </p:blipFill>
        <p:spPr>
          <a:xfrm>
            <a:off x="353880" y="890640"/>
            <a:ext cx="8436240" cy="575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463680" y="3105000"/>
            <a:ext cx="82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Часть </a:t>
            </a: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III</a:t>
            </a: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. Часто задаваемые 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1428840" y="35712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Часто задаваемые вопро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419040" y="1271520"/>
            <a:ext cx="8286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чему бы не сделать в Президиуме централизованную «лабораторию» по экспортному контролю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нституты экономики и философии и права – характер научной деятельности не имеет пересечений с вопросами экспортного контроля, зачем проводить Э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ие есть особенности ЭК при работе по грантам МНТЦ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бязательно ли документы о проведении идентификации подписывать ответственным за экспортный контрол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и заключении контракта всегда проводится множество переговоров, что теперь на каждый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-mail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заключение писат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Если на конференцию едут несколько человек с докладами (вариант: один человек с несколькими докладами), нужно ли делать отдельное заключение на каждый доклад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ужно ли проводить экспортный контроль тезисов публикаци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500"/>
                            </p:stCondLst>
                            <p:childTnLst>
                              <p:par>
                                <p:cTn id="5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500"/>
                            </p:stCondLst>
                            <p:childTnLst>
                              <p:par>
                                <p:cTn id="5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1428840" y="35712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Часто задаваемые вопро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419040" y="1208160"/>
            <a:ext cx="82868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убликуюсь в российском печатном издании, которое, наверняка, читают иностранцы. Нужен ли Э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ужно ли проводить ЭК публикаций, поступающих в центральную научную библиотеку УрО РАН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нешнеэкономическая деятельность предполагает «обмен» информацией. Когда я выкладываю результаты своей работы на сайт – «обмена» нет, значит и  ЭК не нужен. Та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ужно ли проводить ЭК при сотрудничестве со странами СНГ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 с Белоруссие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463680" y="3105000"/>
            <a:ext cx="82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0" y="928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Что сдела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285840" y="1571760"/>
            <a:ext cx="857232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ведено изучение законодательства РФ в области ЭК, проанализирована ситуация в УрО РАН с точки зрения ЭК, сформулированы принципы построения системы ЭК в УрО РАН, выделены типовые объекты ЭК, определены основные процедуры проведения идентификации в целях Э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здано распоряжение Президиума УрО РАН №521 от 02.12.200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прос о необходимости развития системы экспортного контроля трижды в течение года поднимался на заседаниях Президиума УрО Р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научных учреждениях УрО РАН  изданы приказы для создания организационной основы внутренней системы Э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 всех научных учреждениях УрО РАН назначены ответственные за экспортный контро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6.09.2009  в Президиуме УрО РАН проведена учёба по экспортному контролю для представителей научных учреждений УрО Р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нституты отчитались о работе системы экспортного контроля в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V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вартале 2009 г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Выписка.png"/>
          <p:cNvPicPr/>
          <p:nvPr/>
        </p:nvPicPr>
        <p:blipFill>
          <a:blip r:embed="rId2"/>
          <a:stretch/>
        </p:blipFill>
        <p:spPr>
          <a:xfrm>
            <a:off x="2320920" y="285840"/>
            <a:ext cx="4502160" cy="6357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9" name="Прямая соединительная линия 5"/>
          <p:cNvSpPr/>
          <p:nvPr/>
        </p:nvSpPr>
        <p:spPr>
          <a:xfrm>
            <a:off x="5000760" y="2116080"/>
            <a:ext cx="1666800" cy="6480"/>
          </a:xfrm>
          <a:prstGeom prst="line">
            <a:avLst/>
          </a:prstGeom>
          <a:ln w="19080">
            <a:solidFill>
              <a:srgbClr val="c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8"/>
          <p:cNvSpPr/>
          <p:nvPr/>
        </p:nvSpPr>
        <p:spPr>
          <a:xfrm>
            <a:off x="2616120" y="2259000"/>
            <a:ext cx="4057560" cy="0"/>
          </a:xfrm>
          <a:prstGeom prst="line">
            <a:avLst/>
          </a:prstGeom>
          <a:ln w="19080">
            <a:solidFill>
              <a:srgbClr val="c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15"/>
          <p:cNvSpPr/>
          <p:nvPr/>
        </p:nvSpPr>
        <p:spPr>
          <a:xfrm>
            <a:off x="2612880" y="2387520"/>
            <a:ext cx="714600" cy="0"/>
          </a:xfrm>
          <a:prstGeom prst="line">
            <a:avLst/>
          </a:prstGeom>
          <a:ln w="19080">
            <a:solidFill>
              <a:srgbClr val="c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6"/>
          <p:cNvSpPr/>
          <p:nvPr/>
        </p:nvSpPr>
        <p:spPr>
          <a:xfrm>
            <a:off x="2612880" y="2511360"/>
            <a:ext cx="4060800" cy="0"/>
          </a:xfrm>
          <a:prstGeom prst="line">
            <a:avLst/>
          </a:prstGeom>
          <a:ln w="19080">
            <a:solidFill>
              <a:srgbClr val="c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7"/>
          <p:cNvSpPr/>
          <p:nvPr/>
        </p:nvSpPr>
        <p:spPr>
          <a:xfrm>
            <a:off x="2616120" y="2647800"/>
            <a:ext cx="4051440" cy="0"/>
          </a:xfrm>
          <a:prstGeom prst="line">
            <a:avLst/>
          </a:prstGeom>
          <a:ln w="19080">
            <a:solidFill>
              <a:srgbClr val="c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18"/>
          <p:cNvSpPr/>
          <p:nvPr/>
        </p:nvSpPr>
        <p:spPr>
          <a:xfrm>
            <a:off x="2612880" y="2763720"/>
            <a:ext cx="4046760" cy="0"/>
          </a:xfrm>
          <a:prstGeom prst="line">
            <a:avLst/>
          </a:prstGeom>
          <a:ln w="19080">
            <a:solidFill>
              <a:srgbClr val="c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19"/>
          <p:cNvSpPr/>
          <p:nvPr/>
        </p:nvSpPr>
        <p:spPr>
          <a:xfrm>
            <a:off x="2612880" y="2889360"/>
            <a:ext cx="3194280" cy="0"/>
          </a:xfrm>
          <a:prstGeom prst="line">
            <a:avLst/>
          </a:prstGeom>
          <a:ln w="19080">
            <a:solidFill>
              <a:srgbClr val="c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21"/>
          <p:cNvSpPr/>
          <p:nvPr/>
        </p:nvSpPr>
        <p:spPr>
          <a:xfrm flipV="1">
            <a:off x="3435480" y="2381040"/>
            <a:ext cx="3244680" cy="4680"/>
          </a:xfrm>
          <a:prstGeom prst="line">
            <a:avLst/>
          </a:prstGeom>
          <a:ln w="19080">
            <a:solidFill>
              <a:srgbClr val="c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1"/>
          <p:cNvSpPr/>
          <p:nvPr/>
        </p:nvSpPr>
        <p:spPr>
          <a:xfrm>
            <a:off x="2552760" y="3767040"/>
            <a:ext cx="4162320" cy="750960"/>
          </a:xfrm>
          <a:prstGeom prst="rect">
            <a:avLst/>
          </a:prstGeom>
          <a:solidFill>
            <a:srgbClr val="c00000">
              <a:alpha val="20000"/>
            </a:srgbClr>
          </a:solidFill>
          <a:ln w="25560">
            <a:solidFill>
              <a:srgbClr val="c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2"/>
          <p:cNvSpPr/>
          <p:nvPr/>
        </p:nvSpPr>
        <p:spPr>
          <a:xfrm>
            <a:off x="2552760" y="4503600"/>
            <a:ext cx="4162320" cy="750960"/>
          </a:xfrm>
          <a:prstGeom prst="rect">
            <a:avLst/>
          </a:prstGeom>
          <a:solidFill>
            <a:srgbClr val="c00000">
              <a:alpha val="20000"/>
            </a:srgbClr>
          </a:solidFill>
          <a:ln w="25560">
            <a:solidFill>
              <a:srgbClr val="c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33"/>
          <p:cNvSpPr/>
          <p:nvPr/>
        </p:nvSpPr>
        <p:spPr>
          <a:xfrm>
            <a:off x="2592360" y="4267080"/>
            <a:ext cx="4095720" cy="0"/>
          </a:xfrm>
          <a:prstGeom prst="line">
            <a:avLst/>
          </a:prstGeom>
          <a:ln w="19080">
            <a:solidFill>
              <a:srgbClr val="c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35"/>
          <p:cNvSpPr/>
          <p:nvPr/>
        </p:nvSpPr>
        <p:spPr>
          <a:xfrm>
            <a:off x="2592360" y="4145040"/>
            <a:ext cx="4095720" cy="0"/>
          </a:xfrm>
          <a:prstGeom prst="line">
            <a:avLst/>
          </a:prstGeom>
          <a:ln w="19080">
            <a:solidFill>
              <a:srgbClr val="c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628560" y="928800"/>
            <a:ext cx="78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План-график</a:t>
            </a:r>
            <a:br>
              <a:rPr sz="1800"/>
            </a:b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учения должностных лиц УрО 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по вопросам экспортного контроля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57360" y="2165400"/>
          <a:ext cx="7819920" cy="4206960"/>
        </p:xfrm>
        <a:graphic>
          <a:graphicData uri="http://schemas.openxmlformats.org/drawingml/2006/table">
            <a:tbl>
              <a:tblPr/>
              <a:tblGrid>
                <a:gridCol w="666720"/>
                <a:gridCol w="5443560"/>
                <a:gridCol w="1709640"/>
              </a:tblGrid>
              <a:tr h="28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.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ро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рок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еминар по вопросам экспортного контроля для ответственных за экспортный контроль научных учреждений УрО Р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7 февраля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еминар УФСТЭК РФ по УрФО и УТУ ФТС РФ по вопросам экспортного контроля для руководителей научных организаций УрО Р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квартал 2010 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бучение начальника ОВС УрО РАН Сандакова А.В. и главного специалиста ОВС УрО РАН Рудой О.В. на курсах повышения квалификации в Московской академии рынка труда и технологий по учебному плану «Экспортный контроль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 течение 2010 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еминар по вопросам экспортного контроля для ответственных за экспортный контроль научных учреждений УрО Р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V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квартал 2010 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628560" y="928800"/>
            <a:ext cx="78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План-график</a:t>
            </a:r>
            <a:br>
              <a:rPr sz="1800"/>
            </a:b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учения должностных лиц УрО 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по вопросам экспортного контроля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57360" y="2165400"/>
          <a:ext cx="7819920" cy="4206960"/>
        </p:xfrm>
        <a:graphic>
          <a:graphicData uri="http://schemas.openxmlformats.org/drawingml/2006/table">
            <a:tbl>
              <a:tblPr/>
              <a:tblGrid>
                <a:gridCol w="666720"/>
                <a:gridCol w="5443560"/>
                <a:gridCol w="1709640"/>
              </a:tblGrid>
              <a:tr h="28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.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ро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рок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Семинар по вопросам экспортного контроля для ответственных за экспортный контроль научных учреждений УрО Р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17 февраля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еминар УФСТЭК РФ по УрФО и УТУ ФТС РФ по вопросам экспортного контроля для руководителей научных организаций УрО Р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квартал 2010 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бучение начальника ОВС УрО РАН Сандакова А.В. и главного специалиста ОВС УрО РАН Рудой О.В. на курсах повышения квалификации в Московской академии рынка труда и технологий по учебному плану «Экспортный контроль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 течение 2010 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еминар по вопросам экспортного контроля для ответственных за экспортный контроль научных учреждений УрО Р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V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квартал 2010 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4:51:55Z</dcterms:created>
  <dc:creator>Alpha</dc:creator>
  <dc:description/>
  <dc:language>en-US</dc:language>
  <cp:lastModifiedBy>Alpha</cp:lastModifiedBy>
  <dcterms:modified xsi:type="dcterms:W3CDTF">2010-02-18T09:27:47Z</dcterms:modified>
  <cp:revision>380</cp:revision>
  <dc:subject/>
  <dc:title>Слайд 1</dc:title>
</cp:coreProperties>
</file>