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AD66-56DC-4438-9C32-C87EEF3A0C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C6D42-8DEE-43BE-ABCD-85796B4756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3D38-2991-41FA-8E84-5CB3FD4F3AD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EDE8E-4305-47D4-BBC1-CDB5F907A2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F47D-83EE-40DC-9B4A-2DDBD2B855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AEE-0131-4FAD-8F8A-174086F77B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E187-ADE6-409C-B1E3-42F08CAEB1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FC857-42BA-455F-B4A8-2DFB7779962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4937-F1D5-4251-9416-34DDEFAFE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F360-9E17-4ADE-9A82-BB5A1230D73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6112-73AD-40C0-A464-A600EF68AEE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B68-9073-48DC-A412-590A7FFC92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BDF1-9E06-4ACE-B71F-9A9832BD38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0BD6-F17F-419B-8031-C4109C0E25D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FF26-FDE4-46EE-8510-BC3521BF50A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61B-D55F-4BA3-BE38-ADC0D869807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B5C6-D1DA-4057-A2ED-C901793D03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924C0-8968-481A-88A3-473A75F6D3D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F3164-5225-4A7D-BA38-3C4C14FDB0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8ED0-E006-4E6F-B341-9675254FDCF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AA6C-2962-40C0-888D-743EB37B432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78E3-7D50-4B33-8785-C7219A9738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2972-644B-4F95-9866-3BC06E4A1C4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96D88-627B-45D3-AC26-ACE94729DE9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3702D-F0D9-4FDB-844F-89BAADD414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0A05-524C-4D8A-ACB7-3DFFBCA41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838E3-3BCD-49B7-804F-FAD8AED3AD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7742D-E1F9-46E5-9670-07D2D6654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AFCD-CF9D-4C75-A8D3-700FA58B7B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43132-A103-42C9-9A6D-CBBEB5F5232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F4397-C338-485A-B269-DCDCC51871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77A9B-DB14-43D8-A44A-4650CA0E37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0D9E4-F56F-4EAE-AFD2-8DECE975CC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7D0D-716C-4FCB-9A23-D387F5AEFE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B6BA-6438-4577-BAD1-DFD45F64D8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3BC8-3065-43AA-9D2F-B5B62F8AC0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4557-82DC-4A8E-876A-2942401179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8E1C-688C-4100-9DE5-277775845E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DF8E0-FC2E-4665-87D4-81492388D2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D379-5037-4F5B-ACEA-E8498C6FE2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572E-40D9-40BE-A244-771845385A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30388-0B24-4A0D-90FB-AEC26805FDA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EFE2-DEF4-48B7-A4EB-8D8B106D62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FFAA-74D8-49A7-8A20-FFAEC332F8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3328-465C-473F-BDFA-CBCE217AFB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935-E8EC-4F75-A37B-8082DA699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8D86-51B9-4CD5-95E4-7EBE68F7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771-28F4-444F-B771-835A787E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980-7268-4D06-8D17-B3E4F1954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CBA3-C407-4081-BA3F-10DE00F8B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2DC8-3D34-41C0-9ECB-3E37FA84F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FB21-224C-4CD2-9F99-380FE70E0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0323-C49C-4B12-AE25-6F0AFFF3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A76C-AC91-466A-B724-F4CE5C4A4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ACE5-9808-495B-BE91-8974EA70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D67B-2DBA-496A-8E4C-F9CECB60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FBA6-A799-4BA8-BD06-7BEF9643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d0d0d"/>
            </a:gs>
            <a:gs pos="100000">
              <a:srgbClr val="1f497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1A57C-E720-4F5F-A13A-692EA4983C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6" descr="УрО РАН-Gold2.png"/>
          <p:cNvPicPr/>
          <p:nvPr/>
        </p:nvPicPr>
        <p:blipFill>
          <a:blip r:embed="rId1"/>
          <a:stretch/>
        </p:blipFill>
        <p:spPr>
          <a:xfrm>
            <a:off x="1511280" y="1222200"/>
            <a:ext cx="6121440" cy="4413600"/>
          </a:xfrm>
          <a:prstGeom prst="rect">
            <a:avLst/>
          </a:prstGeom>
          <a:ln w="0">
            <a:noFill/>
          </a:ln>
        </p:spPr>
      </p:pic>
      <p:grpSp>
        <p:nvGrpSpPr>
          <p:cNvPr id="49" name="TextBox 4"/>
          <p:cNvGrpSpPr/>
          <p:nvPr/>
        </p:nvGrpSpPr>
        <p:grpSpPr>
          <a:xfrm>
            <a:off x="1231920" y="2700360"/>
            <a:ext cx="6711840" cy="1414440"/>
            <a:chOff x="1231920" y="2700360"/>
            <a:chExt cx="6711840" cy="1414440"/>
          </a:xfrm>
        </p:grpSpPr>
        <p:pic>
          <p:nvPicPr>
            <p:cNvPr id="50" name="TextBox 4" descr=""/>
            <p:cNvPicPr/>
            <p:nvPr/>
          </p:nvPicPr>
          <p:blipFill>
            <a:blip r:embed="rId2"/>
            <a:stretch/>
          </p:blipFill>
          <p:spPr>
            <a:xfrm>
              <a:off x="1231920" y="2700360"/>
              <a:ext cx="67118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1473120" y="2828880"/>
              <a:ext cx="6197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ffc000"/>
                  </a:solidFill>
                  <a:latin typeface="Calibri"/>
                </a:rPr>
                <a:t>Система экспортного контроля</a:t>
              </a:r>
              <a:br>
                <a:rPr sz="3600"/>
              </a:br>
              <a:r>
                <a:rPr b="0" lang="ru-RU" sz="3600" spc="-1" strike="noStrike">
                  <a:solidFill>
                    <a:srgbClr val="ffc000"/>
                  </a:solidFill>
                  <a:latin typeface="Calibri"/>
                </a:rPr>
                <a:t>в УрО РАН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Box 3"/>
          <p:cNvSpPr/>
          <p:nvPr/>
        </p:nvSpPr>
        <p:spPr>
          <a:xfrm>
            <a:off x="6786720" y="621504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16.09.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3469E-006 L -0.39375 -0.41968 E">
                                      <p:cBhvr>
                                        <p:cTn id="11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" y="1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2" name="TextBox 4"/>
          <p:cNvSpPr/>
          <p:nvPr/>
        </p:nvSpPr>
        <p:spPr>
          <a:xfrm>
            <a:off x="285840" y="178596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нешнеторговая, инвестиционная и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иная деятельность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включая производственную кооперацию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 области международного обмен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товарами,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информацие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 работами, услугами, результатами интеллектуальной деятельности (правами на них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5" name="TextBox 4"/>
          <p:cNvSpPr/>
          <p:nvPr/>
        </p:nvSpPr>
        <p:spPr>
          <a:xfrm>
            <a:off x="285840" y="2101680"/>
            <a:ext cx="8572320" cy="27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деятельность в области международного обмена информаци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3"/>
          <p:cNvSpPr/>
          <p:nvPr/>
        </p:nvSpPr>
        <p:spPr>
          <a:xfrm>
            <a:off x="1785960" y="35712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убъект экспортного контр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785960" y="2428920"/>
            <a:ext cx="5572080" cy="18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Российский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участник внешнеэконом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юридическо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физическо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лиц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и 1, 2, 3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1714680" y="35712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бъект экспортного контр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785880" y="2238480"/>
            <a:ext cx="7572240" cy="23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Товары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технологии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торые в силу своих особенностей и свойств могут внести существенный вклад в создание оружия массового поражения, средств его доставки, иных видов вооружения и военной техники, а также продукция, являющаяся особо опасной в части подготовки и (или) совершения террористических актов. Списки контролируемых товаров и технологий утверждаются указами Президен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и 1 и 6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285840" y="230364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Товар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– любое перемещаемое через таможенную границу РФ движимое имущество, а также перемещаемые через таможенную границу отнесенные к недвижимым вещам транспортные сре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5"/>
          <p:cNvSpPr/>
          <p:nvPr/>
        </p:nvSpPr>
        <p:spPr>
          <a:xfrm>
            <a:off x="5572080" y="5715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1 ТК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85840" y="1071720"/>
            <a:ext cx="85723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Технологи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 специальная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информац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оторая требуется для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разработки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оизводства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ли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использовани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какой-либо продукции. Информация может принимать форму технических данных или техническ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Технические данны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ветокопии, чертежи, диаграммы, модели, формулы, таблицы, технические проекты и спецификации, руководства пользователя и инструкции в письменном виде или записанные на других носителях, таких, как диск; лента и другие перезаписываемые или постоянные запоминающие устрой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Техническая помощь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нструктаж, повышение квалификации, обучение, передача производственного опыта, консультационные услуг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5572080" y="5715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каз Президента РФ №1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3"/>
          <p:cNvSpPr/>
          <p:nvPr/>
        </p:nvSpPr>
        <p:spPr>
          <a:xfrm>
            <a:off x="1714680" y="285840"/>
            <a:ext cx="70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обытие экспортного контр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785880" y="2857680"/>
            <a:ext cx="757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Осуществлени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нешнеэкономической 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опер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(передача товаров или технологий иностранному лиц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и 1, 7, 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3"/>
          <p:cNvSpPr/>
          <p:nvPr/>
        </p:nvSpPr>
        <p:spPr>
          <a:xfrm>
            <a:off x="1571760" y="285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ы осуществления 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Схема 4" descr=""/>
          <p:cNvPicPr/>
          <p:nvPr/>
        </p:nvPicPr>
        <p:blipFill>
          <a:blip r:embed="rId2"/>
          <a:stretch/>
        </p:blipFill>
        <p:spPr>
          <a:xfrm>
            <a:off x="360360" y="1390680"/>
            <a:ext cx="8339040" cy="4533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3"/>
          <p:cNvSpPr/>
          <p:nvPr/>
        </p:nvSpPr>
        <p:spPr>
          <a:xfrm>
            <a:off x="1357200" y="285840"/>
            <a:ext cx="742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авоустанавливающие и контролирующие органы в области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5572080" y="5500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и 8-1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28760" y="1305000"/>
            <a:ext cx="8286480" cy="41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езидент РФ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пределяет основные направления государственной политики в области ЭК, обеспечивает согласованное функционирование и взаимодействие органов государственной власти Российской Федерации в области ЭК, </a:t>
            </a: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утверждает списки (перечни) контролируемых товаров и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авительство РФ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определяет порядок осуществления внешнеэкономической деятельности в отношении контролируемых товаров и технолог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Межведомственный координационный орган (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комиссия по ЭК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–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координирует деятельность федеральных органов исполнительной власти, </a:t>
            </a: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выдает разрешения на экспор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пециально уполномоченный федеральный орган исполнительной власти в области экспортного контроля (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ФСТЭК РФ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) – </a:t>
            </a: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осуществляет ЭК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организует работу по информированию российских участников внешнеэкономической деятельности о целях, процедурах и правилах ЭК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рганы внешней разведки Российской Федерации (СВР России), государственные органы обеспечения безопасности (ФСБ России) и иные органы государственной власти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в пределах своей компетенции </a:t>
            </a: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оказывают содействие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специально уполномоченному федеральному органу исполнительной власти в области Э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1357200" y="28584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Нарушения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72080" y="5715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30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28760" y="1258920"/>
            <a:ext cx="8286480" cy="42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а которые в соответствии со статьями 6 и 20 настоящего Федерального закона распространяется экспортный контроль, без лицензий или разреш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лучение лицензий или разрешений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а которые в соответствии со статьями 6 и 20 настоящего Федерального закона распространяется экспортный контроль, посредством предоставления поддельных документов или содержащих недостоверные сведения докумен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ушение требований и условий лицензий или разрешений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а которые в соответствии со статьями 6 и 20 настоящего Федерального закона распространяется экспортный контро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исполнение или ненадлежащее исполнение предписаний специально уполномоченного федерального органа исполнительной власти в области экспортного контрол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здание препятствий для выполнения должностными лицами федеральных органов исполнительной власти, осуществляющих полномочия в области экспортного контроля, своих функц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обоснованный отказ в предоставлении информации, запрашиваемой федеральными органами законодательной и исполнительной власти для целей экспортного контроля, ее умышленные искажение или сокрыт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рушение установленного порядка учета внешнеэкономических сделок с товарами, информацией, работами, услугами, результатами интеллектуальной деятельности (правами на них) для целей экспортного контро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Часть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I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. Теоретическ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анкции за нарушение правил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20760" y="1150920"/>
          <a:ext cx="8501040" cy="4556160"/>
        </p:xfrm>
        <a:graphic>
          <a:graphicData uri="http://schemas.openxmlformats.org/drawingml/2006/table">
            <a:tbl>
              <a:tblPr/>
              <a:tblGrid>
                <a:gridCol w="1477800"/>
                <a:gridCol w="3992760"/>
                <a:gridCol w="3030480"/>
              </a:tblGrid>
              <a:tr h="64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ь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каз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ья 32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83-ФЗ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авонарушения, предусмотренного абзацами вторым - четвертым статьи 30 183-Ф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шение организации права заниматься определенными видами внешнеэкономической деятельности до 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ья 14.20 КоАП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рушение законодательства об экспортном кон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раф в размере стоимости объекта правонарушения с  его конфискацией или без таков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ья  189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законные экспорт или передача сырья, материалов, оборудования, технологий, научно-технической информации, незаконное выполнение работ (оказание услуг), которые могут быть использованы при создании оружия массового поражения, вооружения и военной тех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Штраф от 100 до 500 тыс. руб. либ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тстранение от должности до 5 лет либо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шение свободы до 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тья  188</a:t>
                      </a:r>
                      <a:br>
                        <a:rPr sz="1600"/>
                      </a:b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К Р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нтрабан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шение свободы от 3 до 7 лет со штрафом до 1 млн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Часть </a:t>
            </a:r>
            <a:r>
              <a:rPr b="0" lang="en-US" sz="3600" spc="-1" strike="noStrike">
                <a:solidFill>
                  <a:srgbClr val="ffc000"/>
                </a:solidFill>
                <a:latin typeface="Calibri"/>
              </a:rPr>
              <a:t>II</a:t>
            </a: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. Практика идентифик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1571760" y="285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ы осуществления 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Схема 4" descr=""/>
          <p:cNvPicPr/>
          <p:nvPr/>
        </p:nvPicPr>
        <p:blipFill>
          <a:blip r:embed="rId2"/>
          <a:stretch/>
        </p:blipFill>
        <p:spPr>
          <a:xfrm>
            <a:off x="360360" y="1463760"/>
            <a:ext cx="8339040" cy="45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1571760" y="285840"/>
            <a:ext cx="72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Методы осуществления 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Схема 5" descr=""/>
          <p:cNvPicPr/>
          <p:nvPr/>
        </p:nvPicPr>
        <p:blipFill>
          <a:blip r:embed="rId2"/>
          <a:stretch/>
        </p:blipFill>
        <p:spPr>
          <a:xfrm>
            <a:off x="360360" y="1463760"/>
            <a:ext cx="8339040" cy="4529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4"/>
          <p:cNvSpPr/>
          <p:nvPr/>
        </p:nvSpPr>
        <p:spPr>
          <a:xfrm>
            <a:off x="285840" y="2071800"/>
            <a:ext cx="85723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Идентификация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– установление соответствия конкретных сырья, материалов, оборудования, научно-технической информации, работ, услуг, результатов интеллектуальной деятельности, являющихся объектами внешнеэкономических операций, товарам и технологиям, включенным в списки (перечни) товаров и технологий, экспорт которых контролир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5"/>
          <p:cNvSpPr/>
          <p:nvPr/>
        </p:nvSpPr>
        <p:spPr>
          <a:xfrm>
            <a:off x="5572080" y="5500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7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3"/>
          <p:cNvSpPr/>
          <p:nvPr/>
        </p:nvSpPr>
        <p:spPr>
          <a:xfrm>
            <a:off x="1285920" y="285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Идентификация контролируемых товаров и технолог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5"/>
          <p:cNvSpPr/>
          <p:nvPr/>
        </p:nvSpPr>
        <p:spPr>
          <a:xfrm>
            <a:off x="5572080" y="5715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4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428760" y="1704960"/>
            <a:ext cx="8286480" cy="34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Идентифик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контролируемых товаров и технологий, а также совершение всех необходимых действий, связанных с получением лицензий на осуществление внешнеэкономических операций с контролируемыми товарами и технологиями или разрешений на их вывоз из Российской Федерации без лицензий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является обязанностью российского участника внешнеэкономической деятельност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ий участник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вправ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поручить проведение идентификации контролируемых товаров и технологий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организации, получившей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установленном Правительством Российской Федерации порядке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специальное разреш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на осуществление деятельности по идентификации контролируемых товаров и технологий (далее - экспертная организация), посредством заключения соответствующего договора с такой экспертной организацией. В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этом случае ответственнос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 правильность и обоснованность результатов идентификации контролируемых товаров и технологий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несет экспертная организац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1428840" y="285840"/>
            <a:ext cx="70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Блок-схема проведения идентифик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в целях Э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Схема 6" descr=""/>
          <p:cNvPicPr/>
          <p:nvPr/>
        </p:nvPicPr>
        <p:blipFill>
          <a:blip r:embed="rId2"/>
          <a:stretch/>
        </p:blipFill>
        <p:spPr>
          <a:xfrm>
            <a:off x="1316160" y="1322280"/>
            <a:ext cx="6511680" cy="532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285840" y="1996920"/>
            <a:ext cx="857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ссийс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запрещае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ключ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совершать внешнеэкономические сделки с товарами, информацией, работами, услугами, результатами интеллектуальной деятельности (правами на них) или участвовать в них любым иным образом в случае, если та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достоверно известн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данные товары, информация, работы, услуги, результаты интеллектуальной деятельности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будут использован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остранным государством или иностранным лицом для целей создания оружия массового поражения и средств его доставки либо для подготовки и (или) совершения террористических 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4"/>
          <p:cNvSpPr/>
          <p:nvPr/>
        </p:nvSpPr>
        <p:spPr>
          <a:xfrm>
            <a:off x="285840" y="1996920"/>
            <a:ext cx="8572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оссийским лицам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запрещае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заключ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совершать внешнеэкономические сделки с товарами, информацией, работами, услугами, результатами интеллектуальной деятельности (правами на них) или участвовать в них любым иным образом в случае, если таким лицам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Calibri"/>
              </a:rPr>
              <a:t>достоверно известно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данные товары, информация, работы, услуги, результаты интеллектуальной деятельности </a:t>
            </a:r>
            <a:r>
              <a:rPr b="0" lang="ru-RU" sz="2000" spc="-1" strike="noStrike" u="sng">
                <a:solidFill>
                  <a:srgbClr val="ffc000"/>
                </a:solidFill>
                <a:uFillTx/>
                <a:latin typeface="Calibri"/>
              </a:rPr>
              <a:t>будут использованы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остранным государством или иностранным лицом для целей создания оружия массового поражения и средств его доставки либо для подготовки и (или) совершения террористических а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pic>
        <p:nvPicPr>
          <p:cNvPr id="143" name="Схема 5" descr=""/>
          <p:cNvPicPr/>
          <p:nvPr/>
        </p:nvPicPr>
        <p:blipFill>
          <a:blip r:embed="rId2"/>
          <a:stretch/>
        </p:blipFill>
        <p:spPr>
          <a:xfrm>
            <a:off x="1011240" y="957240"/>
            <a:ext cx="7115040" cy="497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6" name="TextBox 3"/>
          <p:cNvSpPr/>
          <p:nvPr/>
        </p:nvSpPr>
        <p:spPr>
          <a:xfrm>
            <a:off x="1357200" y="357120"/>
            <a:ext cx="72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документы в области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428760" y="1258920"/>
            <a:ext cx="82864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Федеральный закон от 18 июля 1999г. №183-ФЗ «Об экспортном контроле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14 января 2003г. №36</a:t>
            </a:r>
            <a:br>
              <a:rPr sz="11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оборудования и материалов двойного назначения и соответствующих технологий, применяемых в ядерных целях, в отношении которых осуществляется экспортный контро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14 февраля 1996г. №202</a:t>
            </a:r>
            <a:br>
              <a:rPr sz="14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ядерных материалов, оборудования, специальных неядерных материалов и соответствующих технологий, подпадающих под экспортный контро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5 мая 2004г. №580</a:t>
            </a:r>
            <a:br>
              <a:rPr sz="14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товаров и технологий двойного назначения, которые могут быть использованы при создании вооружений и военной техники и в отношении которых осуществляется экспортный контро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8 августа 2001г. №1005</a:t>
            </a:r>
            <a:br>
              <a:rPr sz="14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оборудования, материалов и технологий, которые могут быть использованы при создании ракетного оружия и в отношении которых установлен экспортный контро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28 августа 2001г. №1082</a:t>
            </a:r>
            <a:br>
              <a:rPr sz="14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химикатов, оборудования и технологий, которые могут быть использованы при создании химического оружия и в отношении которых установлен экспортный контрол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Указ Президента РФ от 20 августа 2007г. №1083</a:t>
            </a:r>
            <a:br>
              <a:rPr sz="11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Об утверждении Списка микроорганизмов, токсинов, оборудования и технологий, подлежащих экспортному контролю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5"/>
          <p:cNvSpPr/>
          <p:nvPr/>
        </p:nvSpPr>
        <p:spPr>
          <a:xfrm>
            <a:off x="1428840" y="285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кспортируется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Схема 6" descr=""/>
          <p:cNvPicPr/>
          <p:nvPr/>
        </p:nvPicPr>
        <p:blipFill>
          <a:blip r:embed="rId2"/>
          <a:stretch/>
        </p:blipFill>
        <p:spPr>
          <a:xfrm>
            <a:off x="225360" y="853920"/>
            <a:ext cx="8577360" cy="565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4"/>
          <p:cNvSpPr/>
          <p:nvPr/>
        </p:nvSpPr>
        <p:spPr>
          <a:xfrm>
            <a:off x="285840" y="1285920"/>
            <a:ext cx="8572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обязаны получи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рядке, установленном Правительством Российской Федерации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разреш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межведомственного координационного органа по экспортному контролю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е подпадающими под действие списков (перечней), указанных в статье 6 настоящего Федерального закона, в случаях, если 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имеют основания полага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что эти товары, информация, работы, услуги, результаты интеллектуальной деятельности (права на них)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могут быть использован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ля создания оружия массового поражения, средств его доставки, иных видов вооружения и военной техники или приобретаются в интересах лиц, в отношении которых имеются полученные в соответствии с законодательством Российской Федерации сведения об их участии в террористической деятельности, либо если российские участники внешнеэкономической деятельности информированы в письменной форме об этом специально уполномоченным федеральным органом исполнительной власти в области экспортного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4"/>
          <p:cNvSpPr/>
          <p:nvPr/>
        </p:nvSpPr>
        <p:spPr>
          <a:xfrm>
            <a:off x="285840" y="1285920"/>
            <a:ext cx="85723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Российские участники внешнеэкономической деятель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обязаны получи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порядке, установленном Правительством Российской Федерации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разрешение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межведомственного координационного органа по экспортному контролю на осуществление внешнеэкономических операций с товарами, информацией, работами, услугами, результатами интеллектуальной деятельности (правами на них), не подпадающими под действие списков (перечней), указанных в статье 6 настоящего Федерального закона, в случаях, если российские участники внешнеэкономической деятельности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Calibri"/>
              </a:rPr>
              <a:t>имеют основания полага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что эти товары, информация, работы, услуги, результаты интеллектуальной деятельности (права на них) </a:t>
            </a:r>
            <a:r>
              <a:rPr b="0" lang="ru-RU" sz="1600" spc="-1" strike="noStrike" u="sng">
                <a:solidFill>
                  <a:srgbClr val="ffc000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 быть использован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для создания оружия массового поражения, средств его доставки, иных видов вооружения и военной техники или приобретаются в интересах лиц, в отношении которых имеются полученные в соответствии с законодательством Российской Федерации сведения об их участии в террористической деятельности, либо если российские участники внешнеэкономической деятельности информированы в письменной форме об этом специально уполномоченным федеральным органом исполнительной власти в области экспортного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0 часть 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4"/>
          <p:cNvSpPr/>
          <p:nvPr/>
        </p:nvSpPr>
        <p:spPr>
          <a:xfrm>
            <a:off x="214200" y="1928880"/>
            <a:ext cx="8572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ля участников внешнеэкономической деятельности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снованиями полагать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 экспортируемая (передаваемая иностранному государству или иностранному лицу) научно-техническая продукция может быть использована в целях создания оружия массового поражения и средств его доставки, иных видов вооружения и военной техники либо приобретается в интересах организаций или физических лиц, причастных к террористической деятельности, в частности,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являются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572080" y="5715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3"/>
          <p:cNvSpPr/>
          <p:nvPr/>
        </p:nvSpPr>
        <p:spPr>
          <a:xfrm>
            <a:off x="1285920" y="2858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снования полагать, что экспортируемая научно-техническая продукция может быть использована 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целях создания оружия массового поражения и т.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5"/>
          <p:cNvSpPr/>
          <p:nvPr/>
        </p:nvSpPr>
        <p:spPr>
          <a:xfrm>
            <a:off x="5572080" y="6072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10"/>
          <p:cNvSpPr/>
          <p:nvPr/>
        </p:nvSpPr>
        <p:spPr>
          <a:xfrm>
            <a:off x="214200" y="1214280"/>
            <a:ext cx="86439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полагаемая поставка научно-технической продукции в иностранное государство, в отношении которого имеется официальная информация о нарушении им обязательств по международным договорам (соглашениям) в области нераспространения оружия массового пораж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2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 о причастности иностранного лица, являющегося стороной по контракту, грузополучателем либо конечным пользователем (потребителем) приобретаемой научно-технической продукции, к военным программам в ядерной, химической, биологической или ракетной областях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3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желание иностранного покупателя (получателя) предоставить информацию о конечном назначении и конечных пользователях (потребителях) приобретаемой научно-технической продукции, месте ее использова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4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соответствие функционального назначения и технических характеристик приобретаемой иностранным покупателем (получателем) научно-технической продукции заявленным целям ее использования или сфере деятельности конечных пользователей (потребителей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5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соответствие объема (количества) и номенклатуры приобретаемой научно-технической продукции характеру и техническому уровню производственных мощностей, которыми располагает конечный пользователь (потребитель)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6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повышенных требований к конфиденциальности информации в отношении конечного назначения, конечных пользователей (потребителей) приобретаемой научно-технической продукци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7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не соответствующих обычной торговой практике условий финансовых расчетов за приобретаемую научно-техническую продукцию, стремление произвести оплату наличными средствам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8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размещение заказа на поставку научно-технической продукции организацией (физическим лицом), находящейся (имеющим постоянное место жительства) на территории государства, отличного от государства назна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9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необоснованный отказ иностранного покупателя (получателя) и (или) конечного пользователя (потребителя) научно-технической продукции от услуг поставщика по ее сборке, монтажу и техническому обслуживанию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0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нехарактерных для обычной торговой практики требований к упаковке и маркировке приобретаемой научно-технической продукции, препятствующих или затрудняющих ее проверку при проведении таможенного оформления и таможенного контрол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1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иеся сведения о намерениях иностранного покупателя (получателя) и (или) конечного пользователя (потребителя) провести модификацию приобретаемой научно-технической продукции, в результате которой повышаются технические возможности для ее применения в целях создания оружия массового поражения и средств его достав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2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и (или) конечным пользователем (потребителем) приобретаемой научно-технической продукции абонентского почтового ящика в качестве адреса для деловой перепис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3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выбор иностранным покупателем (получателем) экономически нелогичных способа и (или) маршрута доставки приобретаемой научно-технической продукции до заявленного места назначения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4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указание иностранным покупателем (получателем) в качестве места использования приобретаемой научно-технической продукции территории или объекта с регламентированным посещением для иностранных граждан либо территории, на которой отмечается высокий уровень террористической активност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5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действующее эмбарго Совета Безопасности Организации Объединенных Наций или иной международной организации, участницей которой является Российская Федерация, на поставки вооружения и военной техники, введенное против страны-покупателя или страны конечного использования экспортируемой (передаваемой) научно-технической продукции в случае, когда такая продукция является потенциально пригодной (применимой) для создания вооружения и военной техники, на которые распространяется такое эмбарго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6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 о намерениях иностранного покупателя (конечного пользователя) прямо или косвенно использовать приобретаемую научно-техническую продукцию в целях создания вооружения и военной техники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17)</a:t>
            </a: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8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, в том числе полученная в порядке, предусмотренном абзацем шестым пункта 2 настоящих Правил, о том, что выгодоприобретателем по внешнеэкономической сделке выступает организация или физическое лицо, причастные к террористической деятельности, либо юридическое лицо, прямо или косвенно находящееся в собственности или под контролем таких организации или лица, либо физическое или юридическое лицо, действующее от имени или по указанию таких организации или лиц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3"/>
          <p:cNvSpPr/>
          <p:nvPr/>
        </p:nvSpPr>
        <p:spPr>
          <a:xfrm>
            <a:off x="1285920" y="28584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снования полагать, что экспортируемая научно-техническая продукция может быть использована в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целях создания оружия массового поражения и т.д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5"/>
          <p:cNvSpPr/>
          <p:nvPr/>
        </p:nvSpPr>
        <p:spPr>
          <a:xfrm>
            <a:off x="5572080" y="60721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3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214200" y="1357200"/>
            <a:ext cx="864396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2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информация о причастности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остранного лица, являющегося стороной по контракту, грузополучателем либо конечным пользователем (потребителем) приобретаемой научно-технической продукции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к военным программа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ядерной, химической, биологической или ракетной обла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3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ежелание иностранного покупателя (получателя) предоставить информацию о конечном назначении и конечных пользователях (потребителях) приобретаемой научно-технической продукции, месте ее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6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дъявление иностранным покупателем (получателем)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повышенных требований к конфиденциальности информации в отношении конечного назначения, конечных пользователе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потребителей) приобретаемой научно-технической продук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7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иностранным покупателем (получателем) не соответствующих обычной торговой практике условий финансовых расчетов за приобретаемую научно-техническую продукцию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стремление произвести оплату наличными средствам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8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размещение заказ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 поставку научно-технической продукци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рганизацие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физическим лицом),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ходящейс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(имеющим постоянное место жительства)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 территории государства, отличного от государства назнач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2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спользование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ностранным покупателем (получателем) и (или) конечным пользователем (потребителем) приобретаемой научно-технической продукци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бонентского почтового ящика в качестве адреса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ля деловой перепис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4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казание иностранным покупателем (получателем) в качестве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места использования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обретаемой научно-технической продукции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территории или объекта с регламентированным посещением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ля иностранных граждан либо территории, на которой отмечается высокий уровень террористической актив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7)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меющаяся у российского участника внешнеэкономической деятельности информация, в том числе полученная в порядке, предусмотренном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абзацем шестым пункта 2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тоящих Правил, о том, что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выгодоприобретателем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 внешнеэкономической сделке выступает организация или физическое лицо, </a:t>
            </a:r>
            <a:r>
              <a:rPr b="0" lang="ru-RU" sz="1200" spc="-1" strike="noStrike">
                <a:solidFill>
                  <a:srgbClr val="ffc000"/>
                </a:solidFill>
                <a:latin typeface="Calibri"/>
              </a:rPr>
              <a:t>причастные к террористической деятельност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либо юридическое лицо, прямо или косвенно находящееся в собственности или под контролем таких организации или лица, либо физическое или юридическое лицо, действующее от имени или по указанию таких организации или ли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57120" y="2071800"/>
            <a:ext cx="8572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Информирование участников внешнеэкономической деятельности об организациях и физических лицах,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ричастных к террористической деятельности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осуществляется Федеральной службой по техническому и экспортному контролю путем размещения на ее 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фициальном сайте (</a:t>
            </a:r>
            <a:r>
              <a:rPr b="0" lang="en-US" sz="2000" spc="-1" strike="noStrike">
                <a:solidFill>
                  <a:srgbClr val="ffc000"/>
                </a:solidFill>
                <a:latin typeface="Calibri"/>
              </a:rPr>
              <a:t>http://www.fstec.ru/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)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 сети Интернет сведений, формируемых на основании данных, предоставляемых Федеральной службой по финансовому мониторингу в Федеральную службу по техническому и экспортному контролю в согласованном с ней поряд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"/>
          <p:cNvSpPr/>
          <p:nvPr/>
        </p:nvSpPr>
        <p:spPr>
          <a:xfrm>
            <a:off x="5572080" y="564372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ункт 2 абзац 6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П №517 от 15.08.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68" name="TextBox 5"/>
          <p:cNvSpPr/>
          <p:nvPr/>
        </p:nvSpPr>
        <p:spPr>
          <a:xfrm>
            <a:off x="1428840" y="285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кспортируется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Схема 6" descr=""/>
          <p:cNvPicPr/>
          <p:nvPr/>
        </p:nvPicPr>
        <p:blipFill>
          <a:blip r:embed="rId2"/>
          <a:stretch/>
        </p:blipFill>
        <p:spPr>
          <a:xfrm>
            <a:off x="225360" y="853920"/>
            <a:ext cx="8577360" cy="5650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1" name="TextBox 5"/>
          <p:cNvSpPr/>
          <p:nvPr/>
        </p:nvSpPr>
        <p:spPr>
          <a:xfrm>
            <a:off x="1428840" y="285840"/>
            <a:ext cx="70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Экспортируется информ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Схема 6" descr=""/>
          <p:cNvPicPr/>
          <p:nvPr/>
        </p:nvPicPr>
        <p:blipFill>
          <a:blip r:embed="rId2"/>
          <a:stretch/>
        </p:blipFill>
        <p:spPr>
          <a:xfrm>
            <a:off x="311040" y="895320"/>
            <a:ext cx="856476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4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Категории объектов ЭК в УрО 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428760" y="1844640"/>
            <a:ext cx="8286480" cy="37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Товары, передаваемые за рубеж по экспортным контрак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учных работ по международным контрактам, договорам и соглаш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убликации ученых УрО РАН в зарубежных средствах печати и массов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оклады и презентации, представляемые учеными УрО РАН на зарубежных конференция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Доклады и презентации, представляемые учеными УрО РАН на международных конференциях, проводимых в России с участием иностранц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1428840" y="2858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Основные вопросы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Схема 5" descr=""/>
          <p:cNvPicPr/>
          <p:nvPr/>
        </p:nvPicPr>
        <p:blipFill>
          <a:blip r:embed="rId2"/>
          <a:stretch/>
        </p:blipFill>
        <p:spPr>
          <a:xfrm>
            <a:off x="1305000" y="1566720"/>
            <a:ext cx="6448320" cy="4870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77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Кто может проводить идентификац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428760" y="1785960"/>
            <a:ext cx="828648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Ответственный за экспортный контроль научного учреждения лично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рограммы пребывания иностранных граждан в институт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Комиссия института по экспортному контролю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любые вопро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Ученый совет института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внешнеэкономические контрак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Комиссия по возможности открытого опубликования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публикации, доклады на международных семинарах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ПДТК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(любые вопрос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Calibri"/>
              </a:rPr>
              <a:t>Независимая идентификационная экспертиза</a:t>
            </a:r>
            <a:br>
              <a:rPr sz="2000"/>
            </a:b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(внешнеэкономические контракты связанные с экспортом товар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428840" y="357120"/>
            <a:ext cx="72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Документы, свидетельствующие о проведении идентифик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428760" y="2286000"/>
            <a:ext cx="8286480" cy="34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ответственного за экспортный контро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рограмма пребывания иностранцев в институте с подписью ответственного за 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института по Э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Выписка из решения ученого совета институ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комиссии по возможности открытого опублик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ПДТ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Заключение независимой идентификационной эксперти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3" name="TextBox 3"/>
          <p:cNvSpPr/>
          <p:nvPr/>
        </p:nvSpPr>
        <p:spPr>
          <a:xfrm>
            <a:off x="1357200" y="285840"/>
            <a:ext cx="750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оследовательность проведения идентификации в УрО РА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Схема 4" descr=""/>
          <p:cNvPicPr/>
          <p:nvPr/>
        </p:nvPicPr>
        <p:blipFill>
          <a:blip r:embed="rId2"/>
          <a:stretch/>
        </p:blipFill>
        <p:spPr>
          <a:xfrm>
            <a:off x="378000" y="1463760"/>
            <a:ext cx="8321400" cy="4960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3"/>
          <p:cNvSpPr/>
          <p:nvPr/>
        </p:nvSpPr>
        <p:spPr>
          <a:xfrm>
            <a:off x="1428840" y="357120"/>
            <a:ext cx="72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Вид реестра идентификационных заключ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85840" y="1500120"/>
          <a:ext cx="8572320" cy="4044960"/>
        </p:xfrm>
        <a:graphic>
          <a:graphicData uri="http://schemas.openxmlformats.org/drawingml/2006/table">
            <a:tbl>
              <a:tblPr/>
              <a:tblGrid>
                <a:gridCol w="353880"/>
                <a:gridCol w="946080"/>
                <a:gridCol w="1700280"/>
                <a:gridCol w="1928880"/>
                <a:gridCol w="1928880"/>
                <a:gridCol w="17143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.п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 дата доку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доку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чина проведения идентификац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идентификационной экспертиз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Т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 дата разрешения/лиценз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1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ответственного за ЭК по презентаци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зентация института на международном форуме «Наука-2010»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предусматривает передачу товаров и технологий, экспорт которых контролир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4f81bd"/>
                      </a:solidFill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48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2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ограмма приема делегации Великобритан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ем делегации Великобритании с 10.01.2010 по 20.01.201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предусматривает передачу товаров и технологий, экспорт которых контролир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3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комиссии по Э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договора о совместных научных исследованиях с Институтом права ПА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предусматривает передачу товаров и технологий, экспорт которых контролир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4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ыписка из решения ученого совета институт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 №001/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усмаривает передачу контролируемого товара</a:t>
                      </a:r>
                      <a:br>
                        <a:rPr sz="1000"/>
                      </a:b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ребуется офорление лиценз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лицензия №1001 от 01.04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ТД 10210140/010610/0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5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комиссии по возможности открытого опубликова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убликация ст. н.с. Петрова А.У. в журнале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ristian Science monit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 предусматривает передачу товаров и технологий, экспорт которых контролируетс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№</a:t>
                      </a: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06 от 01.01.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аключение независимой идентификационной эксперти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оговор №002/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араметры экспортируемого товара не соответствуют параметрам, указанным в контрольных списка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ТД 10210140/010610/01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189" name="TextBox 2"/>
          <p:cNvSpPr/>
          <p:nvPr/>
        </p:nvSpPr>
        <p:spPr>
          <a:xfrm>
            <a:off x="463680" y="3105000"/>
            <a:ext cx="821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c000"/>
                </a:solidFill>
                <a:latin typeface="Calibri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62" name="TextBox 3"/>
          <p:cNvSpPr/>
          <p:nvPr/>
        </p:nvSpPr>
        <p:spPr>
          <a:xfrm>
            <a:off x="1643040" y="285840"/>
            <a:ext cx="71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Что такое экспортный контрол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4"/>
          <p:cNvSpPr/>
          <p:nvPr/>
        </p:nvSpPr>
        <p:spPr>
          <a:xfrm>
            <a:off x="285840" y="2000160"/>
            <a:ext cx="85723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Экспортный контроль – комплекс мер, обеспечивающих порядок осуществления</a:t>
            </a: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 внешнеэкономическ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отношении товаров, информации, работ, услуг, результатов интеллектуальной деятельности (прав на них), которые могут быть использованы при создании оружия массового поражения, средств его доставки, иных видов вооружения и военной техники либо при подготовке и (или) совершении террористических ак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1357200" y="285840"/>
            <a:ext cx="742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Цели экспортного контр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285840" y="1357200"/>
            <a:ext cx="8572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новными целями экспортного контроля явля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5572080" y="55008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и 4, 5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285840" y="1928880"/>
            <a:ext cx="828684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защита интересов Российской Федерации (политических, экономических, военных, обеспечение безопасност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реализация требований международных договоров Российской Федерации в области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нераспространения оружия массового поражения, средств его достав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, а также в области контроля за экспортом продукции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военного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и </a:t>
            </a:r>
            <a:r>
              <a:rPr b="0" lang="ru-RU" sz="1800" spc="-1" strike="noStrike">
                <a:solidFill>
                  <a:srgbClr val="ffc000"/>
                </a:solidFill>
                <a:latin typeface="Calibri"/>
              </a:rPr>
              <a:t>двойного назначен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условий для интеграции экономики Российской Федерации в мировую экономику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тиводействие международному террориз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1285920" y="28584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инципы гос. политики в области Э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5572080" y="571500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5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428760" y="1690560"/>
            <a:ext cx="828648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обросовестность выполнения международных обязательств РФ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законность,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гласность и доступность информаци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 вопросам экспортного контрол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приоритет интересов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государств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уществление экспортного контроля </a:t>
            </a:r>
            <a:r>
              <a:rPr b="0" lang="ru-RU" sz="1600" spc="-1" strike="noStrike">
                <a:solidFill>
                  <a:srgbClr val="ffc000"/>
                </a:solidFill>
                <a:latin typeface="Calibri"/>
              </a:rPr>
              <a:t>только в той мере, в какой это необходимо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ля достижения его целе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единство таможенной территории Российской Федерац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гармонизация процедур и правил экспортного контроля с общепризнанными международными нормами и практико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cfaa0b"/>
              </a:buClr>
              <a:buSzPct val="110000"/>
              <a:buFont typeface="Wingdings" charset="2"/>
              <a:buChar char="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заимодействие с международными организациями и иностранными государствами в области Э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1357200" y="285840"/>
            <a:ext cx="73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Сфера действия экспортного контр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285840" y="2386080"/>
            <a:ext cx="85723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 отношении товаров, информации, работ, услуг, результатов интеллектуальной деятельности (прав на них), которые могут быть использованы при создании оружия массового поражения, средств его доставки, иных видов вооружения и военной техники либо при подготовке и (или) совершении террористических ак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2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7" descr="УрО РАН-Gold2.png"/>
          <p:cNvPicPr/>
          <p:nvPr/>
        </p:nvPicPr>
        <p:blipFill>
          <a:blip r:embed="rId1"/>
          <a:stretch/>
        </p:blipFill>
        <p:spPr>
          <a:xfrm>
            <a:off x="285840" y="214200"/>
            <a:ext cx="917640" cy="662040"/>
          </a:xfrm>
          <a:prstGeom prst="rect">
            <a:avLst/>
          </a:prstGeom>
          <a:ln w="0">
            <a:noFill/>
          </a:ln>
        </p:spPr>
      </p:pic>
      <p:sp>
        <p:nvSpPr>
          <p:cNvPr id="79" name="TextBox 4"/>
          <p:cNvSpPr/>
          <p:nvPr/>
        </p:nvSpPr>
        <p:spPr>
          <a:xfrm>
            <a:off x="285840" y="1785960"/>
            <a:ext cx="857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libri"/>
              </a:rPr>
              <a:t>Внешнеэкономическая деятельность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- внешнеторговая, инвестиционная и иная деятельность, включая производственную кооперацию, в области международного обмена товарами, информацией, работами, услугами, результатами интеллектуальной деятельности (правами на них)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5572080" y="5143680"/>
            <a:ext cx="33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татья 1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ФЗ «Об экспортном контрол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4:51:55Z</dcterms:created>
  <dc:creator>Alpha</dc:creator>
  <dc:description/>
  <dc:language>en-US</dc:language>
  <cp:lastModifiedBy>Alpha</cp:lastModifiedBy>
  <dcterms:modified xsi:type="dcterms:W3CDTF">2010-02-18T09:34:11Z</dcterms:modified>
  <cp:revision>276</cp:revision>
  <dc:subject/>
  <dc:title>Слайд 1</dc:title>
</cp:coreProperties>
</file>